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CCF-31C5-4B44-9C2B-92C0721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C33-3CCB-4E1D-8BED-06BE5D11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FA2-35D6-4A76-978E-46308729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4EE-9D27-484E-B704-444F0CF7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D59-1918-43FB-89AE-FBB60006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990-DBA9-4F77-BE0F-BF9D0E5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B19-3BCD-4580-802D-F7B10CF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C5-4AD6-4E75-B5CD-346391C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010-5690-4103-B812-76BEBF85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BB5-E1DF-476D-BE7B-E4CBEAD4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0E8-55DC-429E-ADB3-8216002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57B-F5C0-49D3-B048-4499988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5DB-36DD-4E2D-A5C6-3DD6B37A1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Q7qZPLGOwaP8fbZfsAzaddtbNbifoH8MP2McOU0Q-2ykJA9r1FIHTm8TBXH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ngu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5790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dra J and Kelly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WO-PENGUINS-GETTING-MARRI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ar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tumblr_l744uxqK9m1qz56jho1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ord de mer, Pet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sa femme aller sur leur lune de miel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843360" y="2967120"/>
            <a:ext cx="14572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Nd9GcSWrRAm5DPbrMBa7tSbiLX94hxd6H6hON0EyRh20w2-TrlMYhnaJ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Penguins de trou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r maison de rê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Nd9GcRZ6QJoQC26bK89f1frMhBODnOQeQ8xaHMP30XTHNKoi-MbF_rT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finalement Petit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sa prop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ANd9GcTtGTVtOBQWtSiClVKnmE_tmBSUhRyp1_BDNueOGJ0jErvlw6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bébé 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endre à na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pcs.k12.va.us/instruction/science/antarctica/penguin-waving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-360"/>
            <a:ext cx="4800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revoir 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rticle-1239619-07BB1425000005DC-410_964x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de coucher avec s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uverville-island-adult-gentoo-penguin-feeding-baby-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it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ge de la nourriture de sa mèr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wimming-penguin-bos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Pingouin prendre son premier b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epe_brushes_his_teeth_on_the_train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se brosse les 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Antarctica_Antarctic_Peninsula_Emperor_penguin_RUEF0004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 pas brosse ses chev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d9GcQHtjE4q1xnYxLLYL7ZqAVCTGK--41M1G8UHswmyzlqXOnaSpM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 à l’éc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Nd9GcQZYx27ZgAIFXgmgcMkJLDhPnKfoB08XZfXfUhPUGOtI_QJRM_l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t grandi, il va à sa première dan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Nd9GcT9Q8TBuQ0aF4dq8B-okPgm_g8Mi_TSc23jrbh9v3683nex0l0qx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ouve l’amour &l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51:24Z</dcterms:created>
  <dc:creator>burmankel</dc:creator>
  <dc:description/>
  <dc:language>en-US</dc:language>
  <cp:lastModifiedBy>edill</cp:lastModifiedBy>
  <dcterms:modified xsi:type="dcterms:W3CDTF">2012-03-12T16:05:21Z</dcterms:modified>
  <cp:revision>17</cp:revision>
  <dc:subject/>
  <dc:title>Penguin</dc:title>
</cp:coreProperties>
</file>